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1D3-B649-478C-9E3F-1B7CFC9C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0C2-9DAC-4AC0-B710-A9056BCF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EC0-0C76-49F9-998D-2ACF1C3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B70-2D9C-4C2F-939C-F9B4ACF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9B2-0A65-4D3F-A8F1-F8905870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709-E8F3-4839-8292-590CEAE1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C6DB-B40F-4F7F-B9CD-19C8D291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AA27-AB92-4762-9562-486D5BC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7A3F-73A9-4D7E-85BA-DFF66518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3161-F70E-41BB-9A15-4D82BAE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23A-864C-4839-A0DE-208BF74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111-080E-449B-A3CA-783C813A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CD17-C62A-49A3-BEEE-BDF0D569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1E82-720A-4ABD-9418-40971EC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83C9-97BE-4654-BE09-020B834B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0E8-A295-459D-9EBE-DB0996FE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303-5CE6-4A8A-A27D-6E828217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148B-2120-456F-A971-706FE5C4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1615-504A-4046-B4E4-93AA9A7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7E34-23DB-4018-B29E-21E3F72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0E90-AA7B-4CF1-90C5-9D0A40F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D36D-2845-4214-B669-065ABE80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771-F5E8-451F-8492-B61164D8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1331-31A7-44B6-A13B-8ED74491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28B7-608D-4947-9ABA-2082D95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9506-5983-4177-9D51-AD59ABA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B460-1D32-412E-BE9C-EFAD8F4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E92B-9CDE-4E13-BE1B-49A48CD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BD63-C15D-47BD-98DE-905895A5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DF6A-965C-4F6A-A840-EAFAD3E3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9DE5-9F98-41A2-B59B-B28193C2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81DD-302B-451B-9E88-C95F5F0B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AE90-F86A-4BC0-A44D-7B53069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A49-96ED-4A51-99BB-6025910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266F-FD1E-4DA1-B43A-6CBE1F7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0206-9675-47FB-8035-F2E740D8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816E-224E-4976-8FC1-4C03E0A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74EE-FA8D-4FCE-9F71-EC45358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7A5F-B433-47AA-B4E9-052D2BF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A287-227A-44C4-BC82-9B24B48B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6A84-9A1B-44B6-947F-5C68155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E498-D627-41AC-AE20-B61F486B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9F8F-1487-4C74-B9F0-587956D2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3E14-EC7C-4F02-BEAC-4092697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B10-A5D0-455A-980E-B7B7D15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1EBC-0A7C-4F15-A721-81460B37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52A5-76A1-4569-8A83-F9F3BE4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5A1A-4A34-4B0A-B585-9411896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BCC9-7B51-4521-8064-964C9AFC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4289E-EFA9-4833-9ABE-1A385FD6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E808-15BE-4B42-8E2A-B94037D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7D01-5CF8-49D2-A3D0-77D568E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6EFD-9729-48C0-8FEF-9AD3FA9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A1B4-5CD7-45A1-A53B-0CAACDC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45F3B-BA53-41B9-9F62-2220D8CE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755-1939-4099-A96C-5602D90D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4BE8-E93F-44FE-B39F-41F86A70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D1012-4A4C-4DA2-BEA1-1AE8BD4D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F5E2-02A7-4BB4-A1E6-C84E666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354D4-0FF1-4AAF-8510-DAACC164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9EA1-A9B4-4030-ADD8-16CC17B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1C9C-6C86-42DD-8EE2-C26BD53C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3EC2-E9FA-4CDE-836E-1014956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D423C-30F8-4014-82A3-D0BE511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DD69-3D7C-4641-91E2-406A823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E4244-D4CB-40A1-9E4D-BA417D8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AA4-5AF3-45C9-AA54-86CCE5A7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79259-3D35-4141-AC98-65A552F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4A5F-65EB-4F24-8CA7-8EEDD925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0B3E-CF43-48F5-8711-25DB099F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E57AE-965C-4B06-8684-C8897F0D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AC11-6B85-41EF-92A4-1EEC0FD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3A81-B5C8-40D0-B6A5-34C75397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6CB1-290D-4CF5-8BDB-F37FB84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905A-5087-4EE7-B643-9F234C0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EAB5D-E3B4-4B3E-8041-B78CEDB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1916-32E3-44D9-8FCB-FC92D8A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40D-0E4E-4167-8AA4-91F741D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E464-69FC-44E2-A8EF-D9E361F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5401E-056B-4238-AABF-A63E057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2E8B7-503E-497D-BAA5-A4535F7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D882B-A091-4FB4-B891-129EE05B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50F3-6743-4C2E-A75C-F5DFE56D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B89-208C-44AE-9CA3-6B27D23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49DE-3ADE-4546-89CB-A866D7DC0D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874-A400-4D02-BEAA-E3FDED029D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5BA-B8A8-4925-8D9E-50C8CE66CC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294-397F-4E87-A6FF-58C1FB5CE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D53-F23C-4D3D-841E-D37121D7481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1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1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C610-C03E-4565-A267-6318B42CBF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06B5-79A0-43D8-A2FB-F2005EC6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800" spc="-1" strike="noStrike">
                <a:solidFill>
                  <a:srgbClr val="ff3300"/>
                </a:solidFill>
                <a:latin typeface="Arial"/>
              </a:rPr>
              <a:t>المهام </a:t>
            </a:r>
            <a:r>
              <a:rPr b="0" lang="ar-EG" sz="8800" spc="-1" strike="noStrike">
                <a:solidFill>
                  <a:srgbClr val="ff3300"/>
                </a:solidFill>
                <a:latin typeface="Arial"/>
                <a:cs typeface="Arial"/>
              </a:rPr>
              <a:t>المطلوبه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تقسيم الفصل الى مجموع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عمل عرض تقديمى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عن الجهاز الهضمي في الانس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رصد ظاهرة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انتشار الامراض المعديه مثل الاصابه بدوده الانكلستوما والاسكارس المنتشره في المناطق النائيه بسبب اهمال النظافه الشخصيه ونظافه البيئه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وضع خطة لمشروع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وخاصه الناتجه اهمال النظافه الشخصيه ونظافه البيئه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3300"/>
                </a:solidFill>
                <a:latin typeface="Arial"/>
              </a:rPr>
              <a:t>مجموعة العرض التقديم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بحث عن مصادر فى الانترنت تدعم بها موضوع الدرس و هو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تركيب الجهاز الهضمي في الانسان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بحث عن مصادر فى الانترنت حول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ظاهر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نتشار الامراض المعديه مثل الاصابه بدوده الانكلستوما والاسكارس المنتشره في المناطق النائيه بسبب اهمال النظافه الشخصيه ونظافه البيئه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يمكنكم الاستعانة بمدرس المادة أو أى مدرس آخر للمشورة حول عملية تنسيق و ترتيب الافكار داخل العرض التقديم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يجب ادراج المخطط البيانى الذى سيقوم به فريق متابعة مشروع لعرض نتائج مشروع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خاص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ناتجه  عن اهمال النظافه الشخصيه ونظافه البيئه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3300"/>
                </a:solidFill>
                <a:latin typeface="Arial"/>
              </a:rPr>
              <a:t>مجموعات</a:t>
            </a:r>
            <a:r>
              <a:rPr b="0" lang="ar-EG" sz="3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مشروع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وخاصه الناتجه عن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  <a:ea typeface="Arial"/>
              </a:rPr>
              <a:t> اهمال الافراد للنظافه الشخصيه ونظافه البيئه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قوم فرد داخل كل مجموعة برصد اعداد الاشخاص الذين يعانون من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اصابه بأي انواع الامراض المعديه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فى المجتمع المحيط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ب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تم تقديم نتائج البحث الى مدرس الما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قوم المدرس بتحديد الاعداد المستهدفة خلال العمل فى مرحلة المشرو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تم تسليم كل مجموع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أدوات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ea typeface="Arial"/>
              </a:rPr>
              <a:t> اللازمه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ل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عمل المشروع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ea typeface="Arial"/>
              </a:rPr>
              <a:t> مثل الادوات المكتبيه او قوالب لعمل الاستبيانات واستطلاع الراي وغيرها من المستلز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0099"/>
                </a:solidFill>
                <a:latin typeface="Arial"/>
              </a:rPr>
              <a:t>مراحل التقيي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-10800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 u="sng">
                <a:solidFill>
                  <a:srgbClr val="ff3300"/>
                </a:solidFill>
                <a:uFillTx/>
                <a:latin typeface="Arial"/>
              </a:rPr>
              <a:t>التقييم البنائى</a:t>
            </a:r>
            <a:r>
              <a:rPr b="0" lang="ar-EG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سيتم التقييم طوال مرحة العمل فى المشروع و سيكون المسئولين عن التقييم ه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جموعات الا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رسى المواد الا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رس المادة ( المشرف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ير المدرسة ( المشرف العام على المشروع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 u="sng">
                <a:solidFill>
                  <a:srgbClr val="ff3300"/>
                </a:solidFill>
                <a:uFillTx/>
                <a:latin typeface="Arial"/>
              </a:rPr>
              <a:t>التقييم النهائى</a:t>
            </a:r>
            <a:r>
              <a:rPr b="0" lang="ar-EG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بعد الانتهاء من المشروع لتحديد النتائج و توزيع الجوائز و شهادات التقدير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981080" y="228600"/>
            <a:ext cx="47246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مصاد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334120" y="2362320"/>
            <a:ext cx="3429000" cy="8380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كتاب المدرسي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4920" y="2209680"/>
            <a:ext cx="4133880" cy="1143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4971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Arial"/>
              </a:rPr>
              <a:t>موسوعة العالم الصغير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376360" y="2819520"/>
            <a:ext cx="3719520" cy="15541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urveDown">
              <a:avLst>
                <a:gd name="adj" fmla="val 3197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ndalus"/>
              </a:rPr>
              <a:t>كراسة التدريبات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ndalus"/>
              <a:ea typeface="Andalus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181480" y="4343400"/>
            <a:ext cx="3524400" cy="9144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eflateBottom">
              <a:avLst>
                <a:gd name="adj" fmla="val 5331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ww.photo animation.co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819520" y="5029200"/>
            <a:ext cx="3527280" cy="593640"/>
          </a:xfrm>
          <a:prstGeom prst="rect">
            <a:avLst/>
          </a:prstGeom>
        </p:spPr>
        <p:txBody>
          <a:bodyPr wrap="none" fromWordArt="1" lIns="36360" rIns="36360" tIns="36360" bIns="3636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www.yahoo.com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0880" y="4419720"/>
            <a:ext cx="3524400" cy="8380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eflateBottom">
              <a:avLst>
                <a:gd name="adj" fmla="val 6655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a00e6"/>
                </a:solidFill>
                <a:latin typeface="Impact"/>
              </a:rPr>
              <a:t>www.photos .yahoo.co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a00e6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692360" y="2133720"/>
            <a:ext cx="7451640" cy="2303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omic Sans MS"/>
              </a:rPr>
              <a:t>ما الاشياء الضروريه لحياتك علي الارض ؟</a:t>
            </a:r>
            <a:r>
              <a:rPr b="0" lang="ar-EG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1773360"/>
            <a:ext cx="7524720" cy="4392360"/>
          </a:xfrm>
          <a:prstGeom prst="cloudCallout">
            <a:avLst>
              <a:gd name="adj1" fmla="val 18587"/>
              <a:gd name="adj2" fmla="val 55527"/>
            </a:avLst>
          </a:prstGeom>
          <a:solidFill>
            <a:srgbClr val="9900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Comic Sans MS"/>
              </a:rPr>
              <a:t>ما الذي يمدك بالطاقة لكي تعيش وتقوم بجميع الاشياء المطلوبه منك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39640" y="1413000"/>
            <a:ext cx="7417080" cy="3024000"/>
          </a:xfrm>
          <a:prstGeom prst="can">
            <a:avLst>
              <a:gd name="adj" fmla="val 2304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  <a:effectLst>
            <a:outerShdw dist="117181" dir="836163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0000"/>
                </a:solidFill>
                <a:latin typeface="Comic Sans MS"/>
              </a:rPr>
              <a:t>ما انواع الطعام الذي تأكله ؟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080" y="3222720"/>
            <a:ext cx="71629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Verdana"/>
              </a:rPr>
              <a:t>من هم المسافرين في هذه الرحلة 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4281480"/>
            <a:ext cx="8610480" cy="11001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Verdana"/>
              </a:rPr>
              <a:t>من هي الاماكن التي يمر بها المسافرين في هذه الرحلة 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5686560"/>
            <a:ext cx="8382240" cy="838080"/>
          </a:xfrm>
          <a:custGeom>
            <a:avLst/>
            <a:gdLst>
              <a:gd name="textAreaLeft" fmla="*/ 0 w 8382240"/>
              <a:gd name="textAreaRight" fmla="*/ 8382240 w 838224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Verdana"/>
              </a:rPr>
              <a:t>ما هي مستلزمات القيام بهذه الرحلة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265480"/>
            <a:ext cx="889308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ا اكبر رحله ممكن ان تتم في اصغر مسافه يوميا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60360" y="1224000"/>
            <a:ext cx="7596360" cy="4076640"/>
          </a:xfrm>
          <a:prstGeom prst="downArrowCallout">
            <a:avLst>
              <a:gd name="adj1" fmla="val 37029"/>
              <a:gd name="adj2" fmla="val 43436"/>
              <a:gd name="adj3" fmla="val 23116"/>
              <a:gd name="adj4" fmla="val 53764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الرحلة التى سنقوم بها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حاول أن تجيب على الأسئلة السابقة بنفس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0920" y="224532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- </a:t>
            </a:r>
            <a:r>
              <a:rPr b="1" lang="ar-SY" sz="3200" spc="-1" strike="noStrike">
                <a:solidFill>
                  <a:srgbClr val="000000"/>
                </a:solidFill>
                <a:latin typeface="Comic Sans MS"/>
              </a:rPr>
              <a:t>لماذا سمي الجهاز الهضمي بهذا الاس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2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عرف عملية الهض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ما يتكون جهازك الهضمي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4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فرق بين اعضاء الجهاز الهضمي والغدد الملحقه به ؟</a:t>
            </a:r>
            <a:r>
              <a:rPr b="1" i="1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3200" spc="-1" strike="noStrike">
                <a:solidFill>
                  <a:srgbClr val="000000"/>
                </a:solidFill>
                <a:latin typeface="Comic Sans MS"/>
              </a:rPr>
              <a:t>5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قارن بين مكونات القناة الهضمية والغدد الملحقة بالقناة الهضم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7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فرق بين الهضم والامتصاص ؟</a:t>
            </a:r>
            <a:r>
              <a:rPr b="0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333360"/>
            <a:ext cx="7561080" cy="2016000"/>
          </a:xfrm>
          <a:prstGeom prst="cloudCallout">
            <a:avLst>
              <a:gd name="adj1" fmla="val 18634"/>
              <a:gd name="adj2" fmla="val 30944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95280" y="1456560"/>
            <a:ext cx="8064360" cy="5851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8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وظيفه كل عضو من اعضاء الجهاز الهضمي في الانس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9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كيف يمكنك الحفاظ علي جهازك الهضمي ضد الامراض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0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سباب الاصابه بالامراض المعديه في مصر 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1- 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امراض المعديه المنتشره في المناطق النائيه والعشوائيه بمص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2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كيف يمكن الحد من انتشار هذه الامراض بين الافرا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333360"/>
            <a:ext cx="7561080" cy="1366920"/>
          </a:xfrm>
          <a:prstGeom prst="cloudCallout">
            <a:avLst>
              <a:gd name="adj1" fmla="val 18634"/>
              <a:gd name="adj2" fmla="val 9762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990099">
                  <a:alpha val="64313"/>
                </a:srgbClr>
              </a:gs>
              <a:gs pos="100000">
                <a:srgbClr val="b342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gency FB"/>
                <a:cs typeface="Arial"/>
              </a:rPr>
              <a:t>في نهايه هذه الوحده ينبغي علي الطالب ان</a:t>
            </a:r>
            <a:r>
              <a:rPr b="1" lang="ar-EG" sz="3600" spc="-1" strike="noStrike">
                <a:solidFill>
                  <a:srgbClr val="ffff00"/>
                </a:solidFill>
                <a:latin typeface="Agency FB"/>
                <a:ea typeface="Arial"/>
              </a:rPr>
              <a:t> </a:t>
            </a:r>
            <a:r>
              <a:rPr b="1" lang="ar-EG" sz="3600" spc="-1" strike="noStrike">
                <a:solidFill>
                  <a:srgbClr val="ffff00"/>
                </a:solidFill>
                <a:latin typeface="Agency FB"/>
                <a:ea typeface="Arial"/>
              </a:rPr>
              <a:t>: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1 .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سبب تسمية الجهاز الهضمي بهذا الاسم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2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تركيب الجهاز الهضمي في الانسان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3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مكونات القناة الهضمية وملحقاتها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4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فرق الطالب بين الهضم والامتصاص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5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علي طرق المحافظة علي الجهاز الهضم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6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كتسب مهارة البحث في الانترنت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7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صمم صفحة بالباور بوينت تتضمن إدراج صورة وصوت ومخطط هيكلي او تنظيم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8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نشئ إرتباط بين الصفحات باستخدام برنامج الناشر الالكترون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9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شارك الطالب مع زملائه في جماعة الصحة الوقائية لنشر الوعي الصحي بالمدرسة والبلدة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10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-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يكتسب بعض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مهارات القرن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21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ومنها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 التخطيط / القدرة على البحث والتعلم الذاتى / مهارة حل المشكلات /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 تنمية القدرة على التفكير المنطقى والتوصل إلى الاستنتاجات الموضوعية / تنمية روح العمل الجماعى والمشارك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42920" y="-27000"/>
            <a:ext cx="65534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الاهداف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34:07Z</dcterms:created>
  <dc:creator>User</dc:creator>
  <dc:description/>
  <dc:language>en-US</dc:language>
  <cp:lastModifiedBy>lolo</cp:lastModifiedBy>
  <dcterms:modified xsi:type="dcterms:W3CDTF">2007-11-30T15:11:32Z</dcterms:modified>
  <cp:revision>43</cp:revision>
  <dc:subject/>
  <dc:title>الحيوانات الفقارية</dc:title>
</cp:coreProperties>
</file>